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7B912-F3D5-45B4-B456-BCC335879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D9303-5EBF-430F-8A34-917EA6DA6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94B-61CD-474E-848E-6F25E689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A8B-47B0-4C9C-B8F2-1A98746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385-74E1-485C-9E4B-E88DAF18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949-1D0D-44D8-9243-2C21EB83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9918-BB86-4A99-AFF5-2DBAF120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5D4A-EB1B-499B-8AEE-1C6C81B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A816-9540-4431-A393-FE9AAA76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278E-C364-4C63-993D-EE671D8C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DF34-3A38-49C6-A8F4-DA996140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048B-09F6-48F7-B00E-249A2B2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99F8-32CB-4036-B0BA-81E66FB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6CE-F8C7-47A5-AC8F-3714BC0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D278-FFD6-4EC6-8CF7-F3E5C3C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BFA7-EF62-4605-8DF9-F5E4BF0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86FD-1E97-4048-A1A0-0C3654B1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4512-38C2-442F-BA88-2EE580EA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A30B-5723-43D8-BD11-0D227D85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29D-1586-42AF-B9B2-87C7BB82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1CB-E2F0-4988-ACB4-A7D175E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36C-536D-42C3-AEB5-23CE5EED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6F7-CFF7-4FA7-A15B-C9FDC803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8E7-0C03-4B54-A6D9-CBC5D272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FFE-75EB-4F62-B467-4C3DC5F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324-1390-4ACB-81A6-D7B2BEE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start zone slide the gospel.png"/>
          <p:cNvPicPr/>
          <p:nvPr/>
        </p:nvPicPr>
        <p:blipFill>
          <a:blip r:embed="rId2"/>
          <a:stretch/>
        </p:blipFill>
        <p:spPr>
          <a:xfrm>
            <a:off x="-44280" y="-27000"/>
            <a:ext cx="9232560" cy="519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C7B8F-1753-4C44-95E3-8DD66CED45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0A90D-DEEA-4769-967B-355FF6EBA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95035-D221-4260-84C3-0D827BE6A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B06E0-6D4B-4D8C-BB6F-4678F98B9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start zone slide.png"/>
          <p:cNvPicPr/>
          <p:nvPr/>
        </p:nvPicPr>
        <p:blipFill>
          <a:blip r:embed="rId2"/>
          <a:stretch/>
        </p:blipFill>
        <p:spPr>
          <a:xfrm>
            <a:off x="-44280" y="-27000"/>
            <a:ext cx="9232560" cy="519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1"/>
          <p:cNvSpPr/>
          <p:nvPr/>
        </p:nvSpPr>
        <p:spPr>
          <a:xfrm>
            <a:off x="3124080" y="4543560"/>
            <a:ext cx="28958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7 Awana® Clubs Intern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8920" y="738000"/>
            <a:ext cx="78102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ABL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2360" y="826920"/>
            <a:ext cx="796932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sson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d created, man sinned, Jesus s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2360" y="826920"/>
            <a:ext cx="796932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ave si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hows g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73120" y="866520"/>
            <a:ext cx="7439040" cy="34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ent Je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8920" y="866520"/>
            <a:ext cx="7810200" cy="34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us is the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2760" y="1058760"/>
            <a:ext cx="800244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mo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Ephesians 2:8-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or by grace you have been saved through faith. And this is not your own doing; it is the gift of Go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ot a result of works, so that no one may boa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9040" y="736560"/>
            <a:ext cx="77724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pplication 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as sin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nything you can do on you own to save yourself from si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must you do to be saved from the punishment for your si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ce you trust Jesus Christ as your Savior, where will you spend eter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9040" y="742680"/>
            <a:ext cx="8007120" cy="38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umming I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humans, including each one of us, have sinned, and we all deserve the punishm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deat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ra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eans “giving someone something good that he or she doesn’t deserve.” God has shown us a lot of grace by loving us and giving us kindness and gifts that we don’t deserv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9040" y="74880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umming I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d showed His grace by giving the gift of His perfect Son, Jesus, so we could be saved from the punishment for sin, even though we didn’t deserv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trust that Jesus died for us, we will be saved from the punishment for our sin and have the gift of life forever with Jesus Christ in heaven some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7T17:26:03Z</dcterms:created>
  <dc:creator>Awana Employee</dc:creator>
  <dc:description/>
  <dc:language>en-US</dc:language>
  <cp:lastModifiedBy>Alicia K.</cp:lastModifiedBy>
  <cp:lastPrinted>2017-05-30T15:21:11Z</cp:lastPrinted>
  <dcterms:modified xsi:type="dcterms:W3CDTF">2017-06-14T15:09:08Z</dcterms:modified>
  <cp:revision>71</cp:revision>
  <dc:subject/>
  <dc:title>PowerPoint Presentation</dc:title>
</cp:coreProperties>
</file>