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29BA8-01ED-47DD-8882-BD390DA59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BBD53-38BE-4ED7-93F9-475C9E375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63A-7167-45D3-906E-F1FC61DD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DF0-B3DA-433E-9C6A-B9F0DF3D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7B2-6D9B-4CCA-B393-8481CEA4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95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048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95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048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83B-9975-422E-85B3-04300A29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0839-961A-420C-B90B-74B2BE2D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3DD5-3D8B-467E-9D6D-65BD5A67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2C37-4083-444E-A614-9F96C57F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EF28-61DA-439C-887D-0C791518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830C-B84E-4EE2-A8DB-8A7F4ADB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8920" y="553680"/>
            <a:ext cx="78102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22C0-A630-4052-ADA0-5F1409E6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3265-1178-4DC1-94BA-4C4BA13A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98E-BC3D-4CCD-BE4F-4F9E9C85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7913-036D-47E0-AF57-6668A101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484F-ADDF-4337-A071-61C93CD0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B20A-FBFD-4EB9-ACE7-EF4849DA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4BC6-517D-4A8C-9C3A-38CB2009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952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0480" y="141120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89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952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0480" y="3089880"/>
            <a:ext cx="25146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EA45-3ABE-498C-9536-273342B0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5FC-9920-4FE0-B2AC-9B74CC22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623-E195-4155-950B-3A52E69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349-4B6B-4AF3-9E03-73775EB5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553680"/>
            <a:ext cx="78102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5C4-400A-4FEF-B99E-A8DAEAE2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373-8CA2-48BA-94AD-661F39DB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1040" y="308988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037-8715-467C-AC1F-8A0E71AC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1040" y="1411200"/>
            <a:ext cx="381132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3089880"/>
            <a:ext cx="7810200" cy="15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DBB-BA79-4DDB-83F3-4AA80D51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start zone slide the gospel.png"/>
          <p:cNvPicPr/>
          <p:nvPr/>
        </p:nvPicPr>
        <p:blipFill>
          <a:blip r:embed="rId2"/>
          <a:stretch/>
        </p:blipFill>
        <p:spPr>
          <a:xfrm>
            <a:off x="-44280" y="-27000"/>
            <a:ext cx="9232560" cy="5197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4ECB4-2A27-4F11-98D7-3703B4B887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1A720-8084-43D4-BC5A-4B4C0FB15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8920" y="553680"/>
            <a:ext cx="7810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8920" y="1411200"/>
            <a:ext cx="78102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24EE0-BADB-41F4-9DC3-DB6B64D3C9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73503-5F7C-4E32-A949-42FBD18EA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" descr="start zone slide.png"/>
          <p:cNvPicPr/>
          <p:nvPr/>
        </p:nvPicPr>
        <p:blipFill>
          <a:blip r:embed="rId2"/>
          <a:stretch/>
        </p:blipFill>
        <p:spPr>
          <a:xfrm>
            <a:off x="-44280" y="-27000"/>
            <a:ext cx="9232560" cy="519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1"/>
          <p:cNvSpPr/>
          <p:nvPr/>
        </p:nvSpPr>
        <p:spPr>
          <a:xfrm>
            <a:off x="3124080" y="4543560"/>
            <a:ext cx="28958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7 Awana® Clubs Internat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18920" y="738000"/>
            <a:ext cx="78102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ABL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2360" y="826920"/>
            <a:ext cx="7969320" cy="34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sson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od created, man sinned, Jesus s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12360" y="826920"/>
            <a:ext cx="7969320" cy="34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in Less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have sin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 shows g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73120" y="866520"/>
            <a:ext cx="7439040" cy="34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in Less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 sent Jes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18920" y="866520"/>
            <a:ext cx="7810200" cy="34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in Less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us is the 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2760" y="1058760"/>
            <a:ext cx="8002440" cy="33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mo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Ephesians 2:8-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or by grace you have been saved through faith. And this is not your own doing; it is the gift of Go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Not a result of works, so that no one may boa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9040" y="736560"/>
            <a:ext cx="777240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pplication Ques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as sin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nything you can do on you own to save yourself from si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must you do to be saved from the punishment for your si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ce you trust Jesus Christ as your Savior, where will you spend etern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9040" y="742680"/>
            <a:ext cx="8007120" cy="38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umming It 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humans, including each one of us, have sinned, and we all deserve the punishmen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deat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ra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eans “giving someone something good that he or she doesn’t deserve.” God has shown us a lot of grace by loving us and giving us kindness and gifts that we don’t deserv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9040" y="74880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umming It 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d showed His grace by giving the gift of His perfect Son, Jesus, so we could be saved from the punishment for sin, even though we didn’t deserve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we trust that Jesus died for us, we will be saved from the punishment for our sin and have the gift of life forever with Jesus Christ in heaven some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062160" y="190440"/>
            <a:ext cx="29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rt Zone: The Gosp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7T17:26:03Z</dcterms:created>
  <dc:creator>Awana Employee</dc:creator>
  <dc:description/>
  <dc:language>en-US</dc:language>
  <cp:lastModifiedBy>Alicia K.</cp:lastModifiedBy>
  <cp:lastPrinted>2017-05-30T15:21:11Z</cp:lastPrinted>
  <dcterms:modified xsi:type="dcterms:W3CDTF">2017-06-14T15:09:08Z</dcterms:modified>
  <cp:revision>71</cp:revision>
  <dc:subject/>
  <dc:title>PowerPoint Presentation</dc:title>
</cp:coreProperties>
</file>